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72AB-D07C-4AFC-8FFB-81B3F168EB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1CA-0C3E-41BE-B3EA-B33BB217E8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700F-595B-4F2D-BA1A-5ED08BB3FF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E3D-A17D-49CF-93B2-0BECC05313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B165-197D-42E2-AA5B-E5D58FE43B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A7F-6E64-498B-90D9-D840154509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3AAC-95B6-457C-84D9-8FEBBEDAC2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65BC-325D-4DB2-A44A-A2A666E460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66E-4C5E-4F7E-905F-FA5DE6CAB3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47A-C483-4098-ADBB-8D75B7CC77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FAA-D0BF-4AE7-AC10-A635FBA4FD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FE8-FAAD-45DC-A1ED-02D87524FD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B4A-6EF3-4C3A-A39C-82394B7B6C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2AF-4D6A-4B01-B304-6AE8E7752E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04FE-AA62-4370-80AA-06D82D1ADC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F62A-8579-4A2F-8383-F53FCC25D7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5CB-1A2C-429D-AD25-3344A2D565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9E41-1CE9-4D9A-8C7D-26AFD49FED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83DD-84F1-49DE-BAB8-F73CFE9DF1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2A5-3780-4639-BB73-635AFFBD37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E42-9EEF-4E49-AC70-2C227D1E64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85A1-6B92-4A58-84C3-A07C7BC3C5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692-4DBE-4B4B-AF44-7B82565EA4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D05-B182-4AA4-920E-867F34D5C3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4A1E-9070-4AF1-B358-CF73F8A7AF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4740-C9CC-4F92-95A8-0588936BE0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4620-C8FB-4BD4-9A38-925BDADB2A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BBD-B545-40A6-84C4-E337963C85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071-260F-45D8-8526-7957F2EA4E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C6E-72D3-4C4E-A76C-950DBE0925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11BC-393B-4CEB-8140-01A1D9816C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BD73-40A6-445C-8FED-9DC930B5E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BB43-0E1E-4934-88DC-0D0442D4EB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D4FE-0CFA-49D1-B7C1-DFBE47CF6B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F5B-56A1-40C3-AB72-C53E1C9B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568-9864-4859-B3F3-BADD94C0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692-35A6-490F-9965-9C82BC36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1F9-E8A4-4EAE-B8D6-BCC564C8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8D32-BC1D-4BED-8CB0-430EBFB4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24F8-D933-417A-94D5-788381F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062D-CB46-4123-AA8E-0B3EE9D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6967-64BE-491F-A6B4-0891CD6B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24A7-3563-4D5F-BC88-28A394D8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233-B87A-40B5-9D5A-D62F213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D475-7F69-4A51-A782-3711A44A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C52-89FF-4DA7-BB2C-87C572C1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2DB9-F4C8-497B-8630-DC682D0A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736F-C1B4-4B20-878A-7A0B85B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D11-A6B3-4EA1-B0AE-587F51B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3723-0F64-4A08-9954-D2AEDE54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5E6-F4CE-4E2D-9EBE-BB2CB60B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12A-2C6A-4072-90BB-79C8C08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D6A-077F-41FB-9E6C-66139E66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78C-0F8A-4509-9AAE-C86A284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F6E-57E5-4491-A7CE-42F934B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020-8B53-4875-BC42-BE4DDA5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E48-13FC-4EEA-9B11-5AAFB0C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9FB-6A58-4130-88BC-609C1A1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5570-54D9-4EF7-88F0-AA4B72134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645D-E886-4177-9971-943241E42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Au supermarch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 repas traditionnel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http://www.parisrestopromo.com/restaurant/restaurant/images-resto/101_charcuterie.jpg"/>
          <p:cNvPicPr/>
          <p:nvPr/>
        </p:nvPicPr>
        <p:blipFill>
          <a:blip r:embed="rId1"/>
          <a:stretch/>
        </p:blipFill>
        <p:spPr>
          <a:xfrm>
            <a:off x="1676520" y="1081080"/>
            <a:ext cx="5943600" cy="448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295280" y="5638680"/>
            <a:ext cx="7239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harcuteri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36860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2" descr="http://recettes.viabloga.com/images/Assiette%20Crudites_t.jpg"/>
          <p:cNvPicPr/>
          <p:nvPr/>
        </p:nvPicPr>
        <p:blipFill>
          <a:blip r:embed="rId1"/>
          <a:stretch/>
        </p:blipFill>
        <p:spPr>
          <a:xfrm>
            <a:off x="1295280" y="1103400"/>
            <a:ext cx="6477120" cy="4665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675800" y="580536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rudité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6100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http://danslacuisine.free.fr/Images/ENTR004PH1.jpg"/>
          <p:cNvPicPr/>
          <p:nvPr/>
        </p:nvPicPr>
        <p:blipFill>
          <a:blip r:embed="rId1"/>
          <a:stretch/>
        </p:blipFill>
        <p:spPr>
          <a:xfrm>
            <a:off x="1676520" y="1004760"/>
            <a:ext cx="6095880" cy="4556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2435040" y="5805360"/>
            <a:ext cx="462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carottes râpé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632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676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2" descr="http://adetinte.club.fr/images/celeri_remoulade_640.jpg"/>
          <p:cNvPicPr/>
          <p:nvPr/>
        </p:nvPicPr>
        <p:blipFill>
          <a:blip r:embed="rId1"/>
          <a:stretch/>
        </p:blipFill>
        <p:spPr>
          <a:xfrm>
            <a:off x="1600200" y="100476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2513880" y="580536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éleri rémoulad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3767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839680" y="5576760"/>
            <a:ext cx="41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fruits de m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304920"/>
            <a:ext cx="9753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http://guennbretagne.g.u.pic.centerblog.net/o/d7c1b7c5.jpg"/>
          <p:cNvPicPr/>
          <p:nvPr/>
        </p:nvPicPr>
        <p:blipFill>
          <a:blip r:embed="rId1"/>
          <a:stretch/>
        </p:blipFill>
        <p:spPr>
          <a:xfrm>
            <a:off x="1676520" y="990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5719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289320" y="587520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mou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380880"/>
            <a:ext cx="9601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" descr="http://www.coquillages-de-bretagne.com/catalog/images/recettesmoules/moules_cidre.jpg"/>
          <p:cNvPicPr/>
          <p:nvPr/>
        </p:nvPicPr>
        <p:blipFill>
          <a:blip r:embed="rId1"/>
          <a:stretch/>
        </p:blipFill>
        <p:spPr>
          <a:xfrm>
            <a:off x="1905120" y="990720"/>
            <a:ext cx="56005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35434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95960" y="5342040"/>
            <a:ext cx="81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saumon à la sauce hollandai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388800"/>
            <a:ext cx="94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2" descr="http://recette.cuisine.notrefamille.com/images/cuisine/recettes-fiche/saumon-vapeur-a-la-sauce-hollandaise-_23016.jpg"/>
          <p:cNvPicPr/>
          <p:nvPr/>
        </p:nvPicPr>
        <p:blipFill>
          <a:blip r:embed="rId1"/>
          <a:stretch/>
        </p:blipFill>
        <p:spPr>
          <a:xfrm>
            <a:off x="3124080" y="1074600"/>
            <a:ext cx="312444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3700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207960" y="5653080"/>
            <a:ext cx="32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escargo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457200"/>
            <a:ext cx="94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2" descr="http://www.recette.net/images/articles/escargots.jpg"/>
          <p:cNvPicPr/>
          <p:nvPr/>
        </p:nvPicPr>
        <p:blipFill>
          <a:blip r:embed="rId1"/>
          <a:stretch/>
        </p:blipFill>
        <p:spPr>
          <a:xfrm>
            <a:off x="1905120" y="1295280"/>
            <a:ext cx="577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6385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1680" y="5486400"/>
            <a:ext cx="331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oq au v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457200"/>
            <a:ext cx="9524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" descr="http://media-cdn.tripadvisor.com/media/photo-s/01/6a/89/0b/coq-au-vin.jpg"/>
          <p:cNvPicPr/>
          <p:nvPr/>
        </p:nvPicPr>
        <p:blipFill>
          <a:blip r:embed="rId1"/>
          <a:stretch/>
        </p:blipFill>
        <p:spPr>
          <a:xfrm>
            <a:off x="1600200" y="1281240"/>
            <a:ext cx="5715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37195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2" descr="http://rds.yahoo.com/_ylt=A9gnMiJOag1Fb04BHzyjzbkF;_ylu=X3oDMTA4NDgyNWN0BHNlYwNwcm9m/SIG=12codp8me/EXP=1158593486/**http%3a//noella.ifrance.com/fetes/recettes/saladeverte.jpg"/>
          <p:cNvPicPr/>
          <p:nvPr/>
        </p:nvPicPr>
        <p:blipFill>
          <a:blip r:embed="rId1"/>
          <a:stretch/>
        </p:blipFill>
        <p:spPr>
          <a:xfrm>
            <a:off x="1752480" y="1066680"/>
            <a:ext cx="5943600" cy="4714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3046320" y="5867280"/>
            <a:ext cx="367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salade ver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aprè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 la fête d’anniversaire de votre ami, vous voulez préparer un repas traditionnel franç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us savez déjà un peu du repas traditionnel, mais vous pouvez utiliser une rev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ors vous avez demandé à un ami français de vous expliquer le repas traditionn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7623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2" descr="http://rds.yahoo.com/_ylt=A9gnMiSZag1FhBwAxDajzbkF;_ylu=X3oDMTA4NDgyNWN0BHNlYwNwcm9m/SIG=12vikdo1k/EXP=1158593561/**http%3a//www.regeservice.ch/images/Fromage/Assiette%2520de%2520fromages07.jpg"/>
          <p:cNvPicPr/>
          <p:nvPr/>
        </p:nvPicPr>
        <p:blipFill>
          <a:blip r:embed="rId1"/>
          <a:stretch/>
        </p:blipFill>
        <p:spPr>
          <a:xfrm>
            <a:off x="2360520" y="1081080"/>
            <a:ext cx="5181840" cy="47545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1902960" y="5805360"/>
            <a:ext cx="602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fromag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aprè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886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http://www.harmoniesante.com/HS/choixnutri/partenaires/p_chevrefin.jpg"/>
          <p:cNvPicPr/>
          <p:nvPr/>
        </p:nvPicPr>
        <p:blipFill>
          <a:blip r:embed="rId1"/>
          <a:stretch/>
        </p:blipFill>
        <p:spPr>
          <a:xfrm>
            <a:off x="838080" y="1461960"/>
            <a:ext cx="4572000" cy="3873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4100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http://fromage.de.chevre.free.fr/index.1.gif"/>
          <p:cNvPicPr/>
          <p:nvPr/>
        </p:nvPicPr>
        <p:blipFill>
          <a:blip r:embed="rId2"/>
          <a:stretch/>
        </p:blipFill>
        <p:spPr>
          <a:xfrm>
            <a:off x="5562720" y="2071800"/>
            <a:ext cx="3047760" cy="2309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1598400" y="5653080"/>
            <a:ext cx="53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fromage de chèv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fromag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6432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2" descr="http://www.nestle.com.au/Upload/AU/maggi/recipeimages/CremeCaramel.jpg"/>
          <p:cNvPicPr/>
          <p:nvPr/>
        </p:nvPicPr>
        <p:blipFill>
          <a:blip r:embed="rId1"/>
          <a:stretch/>
        </p:blipFill>
        <p:spPr>
          <a:xfrm>
            <a:off x="1905120" y="1233360"/>
            <a:ext cx="5486400" cy="4361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589120" y="5881680"/>
            <a:ext cx="434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crème carame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667600" y="5653080"/>
            <a:ext cx="43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tarte aux frui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6" descr="http://www.patisserie-piermattei.fr/photos/tarte_fruits.jpg"/>
          <p:cNvPicPr/>
          <p:nvPr/>
        </p:nvPicPr>
        <p:blipFill>
          <a:blip r:embed="rId1"/>
          <a:stretch/>
        </p:blipFill>
        <p:spPr>
          <a:xfrm>
            <a:off x="2362320" y="1262160"/>
            <a:ext cx="4876560" cy="4376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0" y="57636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081160" y="5653080"/>
            <a:ext cx="55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mousse au chocol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615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2" descr="http://borntobecooked.b.o.pic.centerblog.net/qims9obd.jpg"/>
          <p:cNvPicPr/>
          <p:nvPr/>
        </p:nvPicPr>
        <p:blipFill>
          <a:blip r:embed="rId1"/>
          <a:stretch/>
        </p:blipFill>
        <p:spPr>
          <a:xfrm>
            <a:off x="2362320" y="1301760"/>
            <a:ext cx="4572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v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2" descr="http://files.meilleurduchef.com/mdc/photo/produits/sim/verre_vin_rouge_palace_36_01.jpg"/>
          <p:cNvPicPr/>
          <p:nvPr/>
        </p:nvPicPr>
        <p:blipFill>
          <a:blip r:embed="rId1"/>
          <a:stretch/>
        </p:blipFill>
        <p:spPr>
          <a:xfrm>
            <a:off x="3429000" y="1860480"/>
            <a:ext cx="2514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ea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2" descr="http://www.1001remedes.com/wp-content/uploads/remede-grand-mere-mal-de-gorge-1.jpg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 Co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thé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2" descr="http://farm4.staticflickr.com/3071/2416794826_30cfc50851_z.jpg?zz=1"/>
          <p:cNvPicPr/>
          <p:nvPr/>
        </p:nvPicPr>
        <p:blipFill>
          <a:blip r:embed="rId1"/>
          <a:stretch/>
        </p:blipFill>
        <p:spPr>
          <a:xfrm>
            <a:off x="1676520" y="1676520"/>
            <a:ext cx="6095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atiquons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20574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dînez dans un restaurant français avec vos am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regardez le menu et discutez les plats offe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, demandez à vos amis ce qu’ils veulent pren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â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couter la description des parties d’un repas traditio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lasser des plats typiques français dans la catégorie appropri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http://www.parisrestopromo.com/restaurant/restaurant/images-resto/101_charcuterie.jpg"/>
          <p:cNvPicPr/>
          <p:nvPr/>
        </p:nvPicPr>
        <p:blipFill>
          <a:blip r:embed="rId1"/>
          <a:stretch/>
        </p:blipFill>
        <p:spPr>
          <a:xfrm>
            <a:off x="1676520" y="1081080"/>
            <a:ext cx="5943600" cy="44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harcuteri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-22860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èl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3505320"/>
            <a:ext cx="160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Je veux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35719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289320" y="587520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mou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4381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http://www.coquillages-de-bretagne.com/catalog/images/recettesmoules/moules_cidre.jpg"/>
          <p:cNvPicPr/>
          <p:nvPr/>
        </p:nvPicPr>
        <p:blipFill>
          <a:blip r:embed="rId1"/>
          <a:stretch/>
        </p:blipFill>
        <p:spPr>
          <a:xfrm>
            <a:off x="1905120" y="1047600"/>
            <a:ext cx="560052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6860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2" descr="http://recettes.viabloga.com/images/Assiette%20Crudites_t.jpg"/>
          <p:cNvPicPr/>
          <p:nvPr/>
        </p:nvPicPr>
        <p:blipFill>
          <a:blip r:embed="rId1"/>
          <a:stretch/>
        </p:blipFill>
        <p:spPr>
          <a:xfrm>
            <a:off x="1295280" y="1103400"/>
            <a:ext cx="6477120" cy="4665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1675800" y="580536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rudité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612720" y="45720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081160" y="5653080"/>
            <a:ext cx="55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mousse au chocol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2" descr="http://borntobecooked.b.o.pic.centerblog.net/qims9obd.jpg"/>
          <p:cNvPicPr/>
          <p:nvPr/>
        </p:nvPicPr>
        <p:blipFill>
          <a:blip r:embed="rId1"/>
          <a:stretch/>
        </p:blipFill>
        <p:spPr>
          <a:xfrm>
            <a:off x="2362320" y="990720"/>
            <a:ext cx="45720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886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http://www.harmoniesante.com/HS/choixnutri/partenaires/p_chevrefin.jpg"/>
          <p:cNvPicPr/>
          <p:nvPr/>
        </p:nvPicPr>
        <p:blipFill>
          <a:blip r:embed="rId1"/>
          <a:stretch/>
        </p:blipFill>
        <p:spPr>
          <a:xfrm>
            <a:off x="838080" y="1461960"/>
            <a:ext cx="4572000" cy="3873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4100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http://fromage.de.chevre.free.fr/index.1.gif"/>
          <p:cNvPicPr/>
          <p:nvPr/>
        </p:nvPicPr>
        <p:blipFill>
          <a:blip r:embed="rId2"/>
          <a:stretch/>
        </p:blipFill>
        <p:spPr>
          <a:xfrm>
            <a:off x="5562720" y="2071800"/>
            <a:ext cx="3047760" cy="23097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1598400" y="5653080"/>
            <a:ext cx="53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fromage de chèv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fromag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6100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2" descr="http://danslacuisine.free.fr/Images/ENTR004PH1.jpg"/>
          <p:cNvPicPr/>
          <p:nvPr/>
        </p:nvPicPr>
        <p:blipFill>
          <a:blip r:embed="rId1"/>
          <a:stretch/>
        </p:blipFill>
        <p:spPr>
          <a:xfrm>
            <a:off x="1676520" y="1004760"/>
            <a:ext cx="6095880" cy="4556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435040" y="5805360"/>
            <a:ext cx="462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carottes râpé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612720" y="38088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667600" y="5653080"/>
            <a:ext cx="43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tarte aux frui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6" descr="http://www.patisserie-piermattei.fr/photos/tarte_fruits.jpg"/>
          <p:cNvPicPr/>
          <p:nvPr/>
        </p:nvPicPr>
        <p:blipFill>
          <a:blip r:embed="rId1"/>
          <a:stretch/>
        </p:blipFill>
        <p:spPr>
          <a:xfrm>
            <a:off x="2362320" y="990720"/>
            <a:ext cx="4876560" cy="43765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767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2839680" y="5576760"/>
            <a:ext cx="41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fruits de m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2" descr="http://guennbretagne.g.u.pic.centerblog.net/o/d7c1b7c5.jpg"/>
          <p:cNvPicPr/>
          <p:nvPr/>
        </p:nvPicPr>
        <p:blipFill>
          <a:blip r:embed="rId1"/>
          <a:stretch/>
        </p:blipFill>
        <p:spPr>
          <a:xfrm>
            <a:off x="16765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35434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95960" y="5418000"/>
            <a:ext cx="81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saumon à la sauce hollandai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4651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2" descr="http://recette.cuisine.notrefamille.com/images/cuisine/recettes-fiche/saumon-vapeur-a-la-sauce-hollandaise-_23016.jpg"/>
          <p:cNvPicPr/>
          <p:nvPr/>
        </p:nvPicPr>
        <p:blipFill>
          <a:blip r:embed="rId1"/>
          <a:stretch/>
        </p:blipFill>
        <p:spPr>
          <a:xfrm>
            <a:off x="3124080" y="1150920"/>
            <a:ext cx="3124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3700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207960" y="5653080"/>
            <a:ext cx="32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escargo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2" descr="http://www.recette.net/images/articles/escargots.jpg"/>
          <p:cNvPicPr/>
          <p:nvPr/>
        </p:nvPicPr>
        <p:blipFill>
          <a:blip r:embed="rId1"/>
          <a:stretch/>
        </p:blipFill>
        <p:spPr>
          <a:xfrm>
            <a:off x="1905120" y="1066680"/>
            <a:ext cx="577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abord on commence pa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entré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4956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3676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2" descr="http://adetinte.club.fr/images/celeri_remoulade_640.jpg"/>
          <p:cNvPicPr/>
          <p:nvPr/>
        </p:nvPicPr>
        <p:blipFill>
          <a:blip r:embed="rId1"/>
          <a:stretch/>
        </p:blipFill>
        <p:spPr>
          <a:xfrm>
            <a:off x="1600200" y="100476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2513880" y="580536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éleri rémoulad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612720" y="38088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36432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http://www.nestle.com.au/Upload/AU/maggi/recipeimages/CremeCaramel.jpg"/>
          <p:cNvPicPr/>
          <p:nvPr/>
        </p:nvPicPr>
        <p:blipFill>
          <a:blip r:embed="rId1"/>
          <a:stretch/>
        </p:blipFill>
        <p:spPr>
          <a:xfrm>
            <a:off x="1905120" y="1233360"/>
            <a:ext cx="5486400" cy="43610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2589120" y="5881680"/>
            <a:ext cx="434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crème carame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6385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911680" y="5486400"/>
            <a:ext cx="331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oq au v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5191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http://media-cdn.tripadvisor.com/media/photo-s/01/6a/89/0b/coq-au-vin.jpg"/>
          <p:cNvPicPr/>
          <p:nvPr/>
        </p:nvPicPr>
        <p:blipFill>
          <a:blip r:embed="rId1"/>
          <a:stretch/>
        </p:blipFill>
        <p:spPr>
          <a:xfrm>
            <a:off x="1600200" y="1204920"/>
            <a:ext cx="5715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ite, on mang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plat princip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is, on mang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salade ve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7242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ès, on pass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plateau de from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543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ement, on pren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dess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255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gardons le menu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" descr="http://www.tavernedominion.com/img/menu-francais-siteweb.jpg"/>
          <p:cNvPicPr/>
          <p:nvPr/>
        </p:nvPicPr>
        <p:blipFill>
          <a:blip r:embed="rId1"/>
          <a:stretch/>
        </p:blipFill>
        <p:spPr>
          <a:xfrm>
            <a:off x="2819520" y="1219320"/>
            <a:ext cx="3419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1-08T11:35:00Z</dcterms:modified>
  <cp:revision>94</cp:revision>
  <dc:subject/>
  <dc:title>Allez, viens! – Level 2</dc:title>
</cp:coreProperties>
</file>